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909-77ED-4888-A36A-3C47A622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AAE-2F2A-479F-96A0-7CBE2877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305-DE05-4315-9106-A4B3BAA8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C6E-DE3A-49F2-893D-FA46F1DA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9A8-1E4D-4428-8D8D-C5CC7669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E87-121C-40EF-BACC-D9BA66D7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861-C8FA-4D82-9E0E-4747A6CF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48F-E8DB-4671-A2BE-E2A3F378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D5B-E21E-4A3F-A66C-D89DC766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802-9DAF-4C20-88FE-16F413D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B75-FDE0-43E4-B3B1-796E3106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A65-E6A5-42D6-A729-907B9AB2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952B-E00D-42F0-9D4B-7E3D750FA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handpoint.com/home/company/index.php3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hyperlink" Target="http://www.handpoint.com/home/company/index.php3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idega.is/index.jsp?ib_page=6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Verdana"/>
                <a:ea typeface="Times New Roman"/>
              </a:rPr>
              <a:t>Go to Latvia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Dr. Jon Thorhall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SIA KS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Riga/Lat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 u="sng">
                <a:solidFill>
                  <a:srgbClr val="3333cc"/>
                </a:solidFill>
                <a:uFillTx/>
                <a:latin typeface="Verdana"/>
              </a:rPr>
              <a:t>www.ksg.l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400" spc="-1" strike="noStrike">
                <a:solidFill>
                  <a:srgbClr val="000000"/>
                </a:solidFill>
                <a:latin typeface="Verdana"/>
              </a:rPr>
              <a:t>Latvia </a:t>
            </a:r>
            <a:br>
              <a:rPr sz="4400"/>
            </a:br>
            <a:r>
              <a:rPr b="1" lang="is-IS" sz="4400" spc="-1" strike="noStrike">
                <a:solidFill>
                  <a:srgbClr val="000000"/>
                </a:solidFill>
                <a:latin typeface="Verdana"/>
              </a:rPr>
              <a:t>Nation With IT Amb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373356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200" spc="-1" strike="noStrike">
                <a:solidFill>
                  <a:srgbClr val="000000"/>
                </a:solidFill>
                <a:latin typeface="Verdana"/>
              </a:rPr>
              <a:t>Government</a:t>
            </a: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 IT strategy</a:t>
            </a:r>
            <a:r>
              <a:rPr b="0" lang="is-I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Verdana"/>
              </a:rPr>
              <a:t>Good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Verdana"/>
              </a:rPr>
              <a:t>LIKTA</a:t>
            </a: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                                    (Lavian InformationTechnology and Telecommunications Associ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400" spc="-1" strike="noStrike">
                <a:solidFill>
                  <a:srgbClr val="000000"/>
                </a:solidFill>
                <a:latin typeface="Verdana"/>
              </a:rPr>
              <a:t>Latvian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Nordic par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Work 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Perfection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Well educ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Speak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Up to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MS Baltic translation centre in R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400" spc="-1" strike="noStrike">
                <a:solidFill>
                  <a:srgbClr val="000000"/>
                </a:solidFill>
                <a:latin typeface="Verdana"/>
              </a:rPr>
              <a:t>Distance</a:t>
            </a:r>
            <a:r>
              <a:rPr b="0" lang="is-I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4343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4 flying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2-3 hours time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371600"/>
            <a:ext cx="449604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105520" y="3809520"/>
            <a:ext cx="19810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400" spc="-1" strike="noStrike">
                <a:solidFill>
                  <a:srgbClr val="000000"/>
                </a:solidFill>
                <a:latin typeface="Verdana"/>
              </a:rPr>
              <a:t>Icelandic IT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Hire Latvians to come to Ice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Verdana"/>
              </a:rPr>
              <a:t>Some are here al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Outsource to Lat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Verdana"/>
              </a:rPr>
              <a:t>Find the right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Verdana"/>
              </a:rPr>
              <a:t>Find right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Set up shop in Lat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Verdana"/>
              </a:rPr>
              <a:t>Business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Verdana"/>
              </a:rPr>
              <a:t>Leg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Verdana"/>
              </a:rPr>
              <a:t>Hir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400" spc="-1" strike="noStrike">
                <a:solidFill>
                  <a:srgbClr val="000000"/>
                </a:solidFill>
                <a:latin typeface="Verdana"/>
              </a:rPr>
              <a:t>Icelandic IT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Verdana"/>
              </a:rPr>
              <a:t>Sell Icelandic produc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Local competitio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Loc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Verdana"/>
              </a:rPr>
              <a:t>Cost 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000000"/>
                </a:solidFill>
                <a:latin typeface="Verdana"/>
              </a:rPr>
              <a:t>Icelandic IT presence in Latv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_logo_white_on_blue" descr="AstonBaltic"/>
          <p:cNvPicPr/>
          <p:nvPr/>
        </p:nvPicPr>
        <p:blipFill>
          <a:blip r:embed="rId2"/>
          <a:stretch/>
        </p:blipFill>
        <p:spPr>
          <a:xfrm>
            <a:off x="1295280" y="2057400"/>
            <a:ext cx="3714840" cy="74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51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90720" y="1447920"/>
            <a:ext cx="4724280" cy="1218960"/>
            <a:chOff x="990720" y="1447920"/>
            <a:chExt cx="4724280" cy="1218960"/>
          </a:xfrm>
        </p:grpSpPr>
        <p:sp>
          <p:nvSpPr>
            <p:cNvPr id="60" name=""/>
            <p:cNvSpPr/>
            <p:nvPr/>
          </p:nvSpPr>
          <p:spPr>
            <a:xfrm>
              <a:off x="990720" y="1447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1447920"/>
              <a:ext cx="47242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top_sub_company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048120"/>
            <a:ext cx="6858000" cy="834840"/>
          </a:xfrm>
          <a:prstGeom prst="rect">
            <a:avLst/>
          </a:prstGeom>
          <a:ln w="0">
            <a:noFill/>
          </a:ln>
        </p:spPr>
      </p:pic>
      <p:pic>
        <p:nvPicPr>
          <p:cNvPr id="63" name="hdr1" descr=""/>
          <p:cNvPicPr/>
          <p:nvPr/>
        </p:nvPicPr>
        <p:blipFill>
          <a:blip r:embed="rId5"/>
          <a:stretch/>
        </p:blipFill>
        <p:spPr>
          <a:xfrm>
            <a:off x="6248520" y="4419720"/>
            <a:ext cx="1314360" cy="811080"/>
          </a:xfrm>
          <a:prstGeom prst="rect">
            <a:avLst/>
          </a:prstGeom>
          <a:ln w="0">
            <a:noFill/>
          </a:ln>
        </p:spPr>
      </p:pic>
      <p:pic>
        <p:nvPicPr>
          <p:cNvPr id="64" name="KSG%20Logo%20AU" descr=""/>
          <p:cNvPicPr/>
          <p:nvPr/>
        </p:nvPicPr>
        <p:blipFill>
          <a:blip r:embed="rId6"/>
          <a:stretch/>
        </p:blipFill>
        <p:spPr>
          <a:xfrm>
            <a:off x="2666880" y="5181480"/>
            <a:ext cx="18288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Verdana"/>
              </a:rPr>
              <a:t>Outsourc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KSG%20Logo%20AU" descr=""/>
          <p:cNvPicPr/>
          <p:nvPr/>
        </p:nvPicPr>
        <p:blipFill>
          <a:blip r:embed="rId2"/>
          <a:stretch/>
        </p:blipFill>
        <p:spPr>
          <a:xfrm>
            <a:off x="2514600" y="609480"/>
            <a:ext cx="15638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hdr1" descr=""/>
          <p:cNvPicPr/>
          <p:nvPr/>
        </p:nvPicPr>
        <p:blipFill>
          <a:blip r:embed="rId3"/>
          <a:stretch/>
        </p:blipFill>
        <p:spPr>
          <a:xfrm>
            <a:off x="2895480" y="2819520"/>
            <a:ext cx="1981440" cy="1222200"/>
          </a:xfrm>
          <a:prstGeom prst="rect">
            <a:avLst/>
          </a:prstGeom>
          <a:ln w="0">
            <a:noFill/>
          </a:ln>
        </p:spPr>
      </p:pic>
      <p:pic>
        <p:nvPicPr>
          <p:cNvPr id="68" name="top_sub_company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4724280"/>
            <a:ext cx="108201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Verdana"/>
              </a:rPr>
              <a:t>Management consulting</a:t>
            </a:r>
            <a:r>
              <a:rPr b="0" lang="is-I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KSG%20Logo%20AU" descr=""/>
          <p:cNvPicPr/>
          <p:nvPr/>
        </p:nvPicPr>
        <p:blipFill>
          <a:blip r:embed="rId2"/>
          <a:stretch/>
        </p:blipFill>
        <p:spPr>
          <a:xfrm>
            <a:off x="2819520" y="533520"/>
            <a:ext cx="156348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387_idega_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971800"/>
            <a:ext cx="2590560" cy="1092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8132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td1hospitalorganiserlogo2" descr=""/>
          <p:cNvPicPr/>
          <p:nvPr/>
        </p:nvPicPr>
        <p:blipFill>
          <a:blip r:embed="rId5"/>
          <a:stretch/>
        </p:blipFill>
        <p:spPr>
          <a:xfrm>
            <a:off x="1600200" y="4419720"/>
            <a:ext cx="1828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06:33:51Z</dcterms:created>
  <dc:creator>JonThor</dc:creator>
  <dc:description/>
  <dc:language>en-US</dc:language>
  <cp:lastModifiedBy>Jon Thor Thorhallsson</cp:lastModifiedBy>
  <dcterms:modified xsi:type="dcterms:W3CDTF">2006-10-04T14:02:56Z</dcterms:modified>
  <cp:revision>44</cp:revision>
  <dc:subject/>
  <dc:title>Latvia day</dc:title>
</cp:coreProperties>
</file>